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107D9-9134-4672-9573-63C451483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F739E-E11C-4D0B-B9DB-0EBFC927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FBE2FC-8B92-450B-B1C9-656E6ABEE1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FCB77D-FA41-493D-A437-5333B5314C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65245-1290-4A6E-BF95-1BEB9F225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03D543-F089-4462-8348-C2DFFAEC4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0D326F-395C-469B-B6E0-69B5BC307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A827DE-1F59-4488-A270-AC12B838C3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5F6C44-7AF2-4790-8943-9DBC33CDA8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E510BA-C819-4B3B-B995-C809896272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4308E1-E09D-4A0E-86BC-6734D529FB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286B5F-D938-4E87-9486-93AFE67FB0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D58B1-15F4-4A1C-9D95-E1D01E0EA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7827BE-9640-4451-98FC-7E64BF1FB3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AFEE4C-23D7-42E8-87F1-964ACDF54D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42BB92-2805-4C39-A4F1-BE45D35BED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957A16-6F6E-438F-8C6F-B68DA65F3F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70F51B-CAD9-4BD1-8F6F-F51AEF650F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B2A7E1-6A1B-425D-A49D-8DA1B0B36D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48F759-F68D-4B10-8FF5-CD34FDA70E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3DBFF6-5251-4204-A863-BD9B6B04E3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8016FB-5737-414E-8E28-33BBC2A134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EE4046-2051-4ED7-8CD6-E704678E85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937E1-2A9B-4F23-9326-CE96E9331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79627B-829E-4F8F-8861-4EB37DD36F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A625D9-DC95-4A26-88C7-6E38389C87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A9B092-5460-4B1F-BBAE-7060666A6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1AD30D-FAC7-4289-ADC0-23F75FE70C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263AB3-0F27-46CE-929F-67D8726BB7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B5A423-9361-4A66-B69E-55411EC420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43C4D-9D4E-44E4-9911-E6D056C84C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31A080-5FA3-4F41-B959-E4DFBF16F7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B3E5CF-FDA2-4439-80B2-1BD76A7000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72F1F5-8CD2-4905-8231-76E091F14C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0AD98-9DFA-40A9-BDE4-038475091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373790-9312-4BB6-AAE3-90A4549BAB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3310DE-6805-4A45-A0F9-958EB4FCEF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A7F9C7-3178-4309-B9CE-6E38AF38FA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8727514-00E3-451B-AF29-E1D58BEC1F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D697CD-D3DA-46EB-BF16-B0E92AF155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676A65-E1EC-4081-88DF-71C804D0AE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E82CBF-3B7D-4818-A477-92DC58B21B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7A468C-4498-44CF-8ABA-9231C22E80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FDE127-2AED-4FBD-8094-8CE1D0EAA5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0D5C96-5784-4063-8DF5-F1DCC0D18D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6F719-32FE-462C-B20A-80E3E3062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FE08F4-300D-403B-94EA-16F9558A8E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0054A5-32E8-4507-AA29-E542E2B90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7006C5-A7B0-4F45-AE91-55B7CC3614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42E9D7-6587-485E-803D-ABE39B3C60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D3910C-6672-440D-976B-E62942C97F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ACFBBF-04AA-4585-80F7-943079501C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E95A20-4EFA-4F71-8C50-6CF0C8E69A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B24F95-B52E-4741-BEB2-252FA9C789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286AFD-B4B5-435F-8C62-8A9F897744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61ABC5-7ACE-4E5A-9806-239C450CAC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07F26-975B-46D7-AA71-CA2FA2C1A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AE7010-B155-4B15-A045-CA89B91FF3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22931C-46F8-4AFD-95AC-32E645C43E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84D87E-DBA9-4717-8DD4-E2BBA38459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BF7ED9-E72D-48D8-A464-E10F3A0A65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F2276D-6690-4637-A855-82AC8FD66B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ED4BD1-38F9-4643-BF60-97C27642F9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0BEE5F-7DDF-453C-91E4-3DCD4AEE0E7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804C20F-2B1E-4303-9618-D896E5C390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48D978-4EBE-4010-AF76-9D9B4474FC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CB0800-A6E4-466D-82F7-D799ABE39F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F70CE-FDF8-45F0-A45A-865A7C95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1F098D-3371-45E2-859C-37A4898DB3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C8EA463-4FC7-45FE-AEB3-4754F89E5D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C39133-D3B9-4FFB-8C86-C4485E54CF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E4F0F0-420B-44CC-8328-6DE36EFF74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0671A9-DD82-4E0A-B1C7-ECD10E9120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F6D420-AB78-48F5-BD1C-121913895F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9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F7D5EE-138C-425F-AE63-88156FBCC6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87508D-37C1-41B0-9EA9-F03133D9F5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7AFAFD-05EE-4C7D-8FB1-0CC1BAE8599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95D8645-12C0-4389-B4AE-9DD10D33CEE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C9967-CEC2-42E9-A962-3B7878FDA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1A6560-197B-41B7-93F0-21153FD911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40C074-B3A8-47C1-8DC7-6D04FE72DA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CDF713-9AF6-461E-A9FB-A6F6AC61CC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7D05CC-E51B-4DC8-B666-C444AF8019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AFC9BB-A94B-4748-8432-3698C97FD4C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21DE39-E973-43AD-8305-C02C66EFBE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4BF7A5-4114-4D05-8075-C6B39A53E8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978FD9F-B153-461C-BA69-A7E85F36CC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1C5F0A-C52B-4F61-BE2A-2AE6C474F4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D18EBD2-735B-48A3-8275-72E8DAB37B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52CCD-542A-42BB-A0A7-1ED85D7D4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2E13315-F131-478E-9CB1-927D3005F07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12C98C-8BE6-4A48-BD79-E1FACDB5166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5CCECB-52D2-4D6D-9988-B67914E132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DEEB87-96EA-42D7-ACB5-2F5FAE1788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ACF639-5ABA-4202-97AA-78519B11F9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0F2210-1A91-488C-834D-6B478DDD9F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B2936C-250D-4239-BD5B-E5FB9D4C8C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FCA653-EC81-407A-A37C-0C2E70D925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0257AA-8F14-483D-AF9E-E22B0A8B63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B24D73-3879-46E5-8B65-D107D549C0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B604A-ACA0-42CD-9E3B-9FE8C8A39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7AD22E-949B-4D0E-9C58-FFD58B4DF3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6B1511E-283E-4524-8F1C-9DFF29E993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F5F19B-858C-4C7B-9E16-CFDFA8B3C8B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A89677F-DE50-4642-A505-994FE31F855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C881A4-8475-4259-9455-5E8861B3E0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3EDB21-4255-4480-9888-A81BACCC2E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313460-39C1-481B-BB7E-E808FA34E2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8BB374F-D4C0-4E6D-B01E-564739AEA81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51BD4A-241F-4FD7-9E8C-0BF8EFA440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0EDAA0-8A9E-4B19-9EF3-69CCF4D78B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38B22-A308-41C9-AFDA-FCE5BC57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BD90C-8609-41D9-88F0-39064D428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B5B9EF-1F8A-4D6D-AC20-B2DAFE630B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35CE82-3898-4DE6-800B-376781C1CE5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FA5446-0361-4BC4-8308-3DE797D00D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FA3713D-521A-4C5D-BDFE-97A1E6E14E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30CD991-4A47-43A5-A084-6D07A42D0EE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25A1D5D-D60F-49D4-BF4C-920BCD8630F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74E5402-435A-4171-994C-DABDAA629E5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ADF0C4-AD07-463A-AE8C-17F9C2D281D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8ED1B9-ED89-4D68-8415-0AADB23469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F78BC4B-2FDC-4012-9487-9047F046B45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A1499-CFC3-4D94-88D1-0C93664F9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55B9029-16D8-47D3-970E-A3FDBF1683A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B067B3-6CBA-4260-A19B-7FF986D702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2160EB-9B20-42FA-8F6C-95BD7233A7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89065A9-ADB2-4C81-95E5-CD86039A3D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090F8E-49A4-421D-BD6B-3D567AE7CC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B56C5B-F54F-40F9-9250-B6F0E2DE89D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D43610F-DE3A-4D54-A00B-EE5612AF53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1D3E814-D2A8-49CE-9CBE-395AAD354A4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3DDFAB4-C9E3-409C-AFB2-7016A62F4D6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7219546-8C08-427B-95C8-6A1903D0748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1CED6-DE93-413E-9785-936253F06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B230A9-F7FA-44D1-BED1-53C8FEF7823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33D2CFF-6FAF-4BC7-94EB-0BA7C609B6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BB28A65-3080-4CF3-8CFE-098F3440B6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AC982A-0B95-4E5E-AF50-CE372F5353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AC93664-EF21-4EB7-9A75-4251FF1C249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06AF289-7886-4714-B47F-D025E73E16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61B3F92-E54E-48BF-A80E-85E830ABF25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653EE9C-6DA7-4D96-A650-69F8AE29C8E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7DCBD70-6BB2-42B9-82F1-DA96E724933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77B1EEB-AA29-47ED-BA8F-186360D2440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715A59-00C6-4905-B83A-C56082C10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BE83352-1957-460C-AF48-2EBA07B70D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8CF37D0-FE8C-4D26-B19E-F2311F60629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FF8999-6454-4D23-B648-B7EF970303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099F8A4-CAA4-4AEE-855D-B2C850C5CF1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528A572-9530-4CB9-99E9-A0656DEE0B7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494512-DA5B-41AC-9947-8A59170F9B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6CA0018-9429-4D9C-BD3B-CC4776D41F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0C9487-99D1-4AA7-9F07-887B30C912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24E0886-0331-470D-A578-E63099C042F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CBFD7FF-0463-4C7C-97DB-50B5D3C19F7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D139A9-A357-4BA4-97F8-F8653E9C3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9791FE8-DF5F-40EA-A694-E2B9AF44A94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4F206F-2B04-473B-9F98-869C4E9CEB9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83AF70A-E7EE-450C-9F58-907F6F649B1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F425A2-1352-40BF-A953-31AC627FCFA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D0E4184-4739-4ACF-BB78-405C9031319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6377A23-193E-44C5-A8B9-DCA53AB38B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70FF819-0CB8-4AB8-A926-8B73C496C8A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7F46A70-3243-4B76-9BAC-18783EC9024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D59A5D2-8496-43FA-9E22-7A43D7C1F2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AD975D-BCF0-4E9E-B883-4CD834E39C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7F360-B3D1-45A3-9B6D-FE9ED2B3CF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9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FF9449-1C39-48C6-ADEC-2D0FB031539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9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9524706-91DA-4F66-AC8A-E79BC1B6F2E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0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0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0678D70-7903-45EF-BEF6-F8F8BC86C5B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1AE87A2-AA5F-4F99-9A06-6BAE19186CB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0E52FAC-2FD8-402C-8658-EACE95E738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1970A68-B9E3-4556-850D-5DF6AAD10CF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70B94FA-6249-46FC-9525-F52D0843BA8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2C4971F-ACD0-459A-8214-55947327A7D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30B147E-194E-49CB-9D38-F1954AFD82B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51FA33-525C-4E48-826D-9A5DC2556E3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548D7-CE2F-40C5-A410-386E85ED2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86622CF-4231-4DE3-ADAE-3337F352E8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FA79AE0-6DE9-47C0-BCF6-BD6D411922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55224D2-B23A-41B2-AB5C-EB4F2BD767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B0F245E-DF7A-4A93-BFFD-1E71930BF7C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ADCBDD8-7C65-4137-9F09-1E4AF5F2FBC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4A2F6CB-6C9E-4927-955C-55177BE8F0F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5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46D344B-E564-4E44-8525-FFF035ABC8D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D38DC46-86B8-4E88-99D7-8A0F1A414A1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9381A64-0FBD-41E4-BFDC-4DCFA8E33E3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5D3DF79-F373-4FCB-BB3B-BB2348F38B3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19AB5-1CCC-47BE-B555-038D57E61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F9DCE0F-364B-42CB-B246-15A5A4B5AF2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0AC9CF2-2B61-4E2B-B4B6-23AE693CB8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BE49D04-9E2B-483C-BA93-74556AD54CE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1752AC-81FA-4EF1-987E-E95F7D2AB3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7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19F23DA-BC68-44E0-9C0F-411164E7E2D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01DC141-5582-49A7-9DED-65197662314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8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515829AC-3298-4F6D-8AF1-7673B166EF3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501FEBF-7ED7-4E79-899E-FC02CBAC7E2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265BD84-F488-4920-B948-C3126A1AB1A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ED82307-275C-4B35-A10C-259438F818F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B2A10-BB5C-4834-A34D-EAA0924DA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BE2BE55-9FA3-4874-980D-722169D2C06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5484D34-03FB-4275-988B-59F3DE737DD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A66BF9B-B48B-4141-BFB8-4F9137DB8D8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05AC92-A150-4B7D-8F1B-60A4954C1D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AFF8AD2-7588-41E2-90B0-5DF7ED23132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92FF974-25B3-4E35-A12F-9EDA24D040D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99997E6-BAF4-4FFE-8A21-767025470B4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1DD1476-8548-4ED0-A849-A495B660CA0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3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49103C3-8413-42FE-8697-4F9C535EDF2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EF12369-509C-486C-914A-3FE51870762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6EFDAF-55D8-430E-9B4D-0446F55A5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D97689F-5A9A-4F09-9D35-62C53075F34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3AE8C34-62BD-4A3D-8BE1-A4530828F6F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4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2440D0-F85F-459F-96A4-A8BBB51E394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26FAEC-DFAC-4EE0-8AB4-511763C9ACF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3B33CA0-25E2-42D0-8D45-E4A9D4BFDA4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636909E-8DF0-467F-8EEF-B599917EE1B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B5BD65-29AD-4786-BEF1-528A056A3BB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C1CD639-5418-4502-8FE3-6DA80F88910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FB8D99-7C50-4813-8467-B24BF26D5DB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7868B75-31FF-4DEC-B069-49E46F133B5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9CFC-93ED-4A83-931D-7B6B777C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46214-4A88-46CB-AB6E-57B406979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A9C137C-82AE-4F0F-8ED2-92D2E0E36EB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0483D9A-C037-4DAB-96EB-45E9F626D8A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8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AE077CE-24B8-4397-8975-DC8D07FDC4E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42FAB7B-E31E-49CC-924F-35E336D3C54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0BD3533-C778-4028-A35D-F931A29C797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DFF48FE-7253-4EE2-9AFD-29798464937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E7BE199-411B-478E-A5E5-3A04DEE2C07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1CBAEF-8C31-4768-8BF3-BC4BBA91562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11CE099-4996-4817-88DC-E3EF939AC5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CAA16FC-4854-48DE-86B9-0BAAB7A68C1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0A9FC-B973-40DB-A0BE-044F0158A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0A37F18-E5A2-48C4-BD13-A96A729374B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1F16A5B-7AB3-4A8C-BB01-41526BE60FC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01BAA86-AC83-4427-8F90-477CF529103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8FE36E1-BD06-4BDC-9AE0-FA05B7131D2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61BF9AD-75A6-4888-9451-1EED1F095B0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FB3EEB9-0CD6-499D-8B96-99388830EC6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484280F-71B0-46BA-B761-4D1C4ED8D79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2F53541-3672-41A2-A0CD-15DBD6375FC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4BFED3C-D89F-4ACD-9494-11BBDF420BB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8224993-52E3-42BE-8460-BF38781EB6F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26703-CD18-465C-9374-8AB41713B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8D6AC43-6E25-41A4-A94F-251D58A703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2B18262-DA84-488D-B710-F07987198BD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419CDFF-1E9C-4DBE-AA39-484776B1920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C7C6DB2-6A30-4773-A34D-21420756445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CDBC3B6-339E-4EA5-9D71-29F3B41D8BF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1C4567F-5481-49B4-A3C0-1767ACFCAE0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9B76CDD-2AE3-4D58-97A6-11F10F8EA5F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8A6E586-04F0-4383-91BE-83012249DEA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E9E0BA-24AD-4AC1-AB69-185FDFE8603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89EB637-E64C-48C6-8021-932BD61F057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71A8D-2A7A-4426-9B4A-5C2B3CC97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F171FDA-DAA3-49B3-AF8D-83DA820E9A5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CDBB7BE-5F55-4BAC-AC54-901A9AC8AAF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708AE52-998C-4289-A549-95F3EC680DF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F9688B6-8272-4716-AB0E-DBB6A92DAE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3FFA2B6-DFFF-4F37-AAED-B7A33296348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3786A40-9F22-47F0-A94C-816E26C5D3D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A2953DD-129D-4D3F-B5AE-C2367F67B8A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2F4DF88-2A9E-4312-8C5F-A10CD2D0579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1FDB195-5D3D-4785-814B-830561E563E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CB70340-22FB-4F8F-8BF0-176B1AEC6BE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9E419-1D91-4826-8E54-DDD5B6036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6C67F74-AC5F-4DDA-BA69-1A53E7393E2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7A1BA4D-8B37-43CA-8D7E-802A2658087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7B3B7DD-ED42-4B08-9795-AB58FF04BD4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4359AC5-FE1C-4F29-BA61-F879D93660A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C52F4A3-C588-43C9-8A0C-6B06291152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FF6EDEE-55B2-4DC1-803C-63E3D27E83A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35C766D-E0A9-4B22-9E1B-F3C01D78111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3FEBD31-5FF0-48D7-B2D7-BB7CED65450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013759F-7CB0-4B96-BAA0-C4DE7C3CC2B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5F87643-F688-4142-B5D3-30ACA52E8C6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C4B0E-B364-4C67-92DD-C9DC020EE5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143C0CE-F475-4A08-AFAE-CAFD5A3BF6B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A68E9F1-4162-470D-8A07-C5B10EAFB4D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AF30FFB-E4F4-46EB-8D05-116554338E4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BE2DB69-034E-42C7-8E1B-7285CCE5561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B529CC6-3DA9-4A44-810C-8C9D708AD41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BC5D4C5-950D-419A-AC92-507E9E9B586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7AF2060-0738-4E92-A696-6A491FDA354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C4ABBC6-79FA-4187-A6C6-A4EE3F4CBE1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7357CA7-97B9-4DBA-B186-4920661E69D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09071E4-30B5-4E1A-AEAA-F2BA4DD4345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192EC4-CFF3-4F60-8986-50FCAC3A10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0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342A893-9805-4450-AD5C-D829C58C4880}"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5ED0811-9D6A-4107-85C3-54161687B28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2B4ACF9-89FC-4739-B3CA-C284E921DFF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05DE36D-1ACD-4A2C-890F-9192A1D760E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6E846A6-CAEB-4232-9220-1EE82C7B3B8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E9F87DE-AC62-4AD0-AA5B-1C89365E066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1643CF9-03B7-45D9-AF51-09318FDDC7F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F667638-66E3-4D6B-A94A-7740B4A283F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4AE59BB-8041-4E80-95F1-7FD436719A0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829679F-D7F0-4BB1-8263-18361AD94D0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725B1-67C5-41A0-AC2A-7E98D2514A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9692526-497A-4535-8C33-2AF1D976582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4CE867A-AFE6-48F7-95D0-169160E6030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D2D344C-0C68-403F-BE8E-77FB698D17C9}"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C9F01CC-DB5E-435E-8AC9-C113651472B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90B14F0-91F5-417D-880D-96A81964521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417C38D-4A33-4535-8652-59CA912F947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6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8313289-0CE7-4FF2-9A25-F1C33E7C896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BCCDEDC-3723-4FC5-8849-7A764F23AB8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5574751-C2D3-4CC3-B42F-C3E8A43DD16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BA12154-BA70-461C-8058-B9053E9E420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8C389-CE5F-442E-AE46-783CD786B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7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54A9AEA-56A0-4115-9E24-C587DAE8CA0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11468DB-5A9B-4C3B-9BD6-9F60EDD4B9E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C5F4B08-908F-4B75-ADA4-46D7433B55B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3D4D476-8487-49E4-8633-C1D522D9F7B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9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5ECBA6A-C2D7-473C-B512-7A8C6F272BA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695F2C6-A1FA-4A96-A1CB-EE98E3CB0E9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D6D8085-60CD-4A13-8EA6-48C3FC565D6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B437C3D-3DBE-4E05-B5D6-AF6A719A165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1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A26F68F-9DB5-4F1C-97C2-68B2F247A3D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9E15823-8EA8-4E63-9BC6-4EEF36FE273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3EB388-B22B-4F4C-A40C-37DC1CB08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0AFC4C5-C1D7-4AAE-ABB8-015CAA8584D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893971A-B16D-4219-88C1-D4AA269708D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FCDD65F-782B-4C7B-9BB8-F5AC7773DA8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16C6946-01C3-4433-BE8F-7DAA782439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88B3449-A288-4455-9FB1-2803E0E3662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A6CA7A1-638D-40FD-ACD4-84361B8B024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4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923CBD7-6CDD-48CF-A1B1-1FFF0355A00F}"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144E5-9DD6-4541-ACB4-2A9A1E58B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B0C98-EC71-464B-951C-F735782FF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DD59A-7563-4CDF-A293-524951075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31A39-A198-466F-B9DF-98A4118A5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01D59-7C31-4FF5-9D93-56B2F9E29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F6272-2552-4B44-BBC1-9FFAA6CC0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97F18-7623-4C1B-A5F2-EF8EBDA31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3E73A-DEA9-445D-8F6E-3039AE7E0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DFE1C1-713F-4D45-9E5A-13162EA97F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3FD89-9ED8-4865-999A-8F2D051F7D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7441A4-1779-423E-BB4E-E78FE601B6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E297-9C93-4DC7-863A-8A95FFB5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6810B-2F65-487A-9717-41EBF01CB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722CF-4E43-4080-A9E8-5006560AF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4F87C-CFC7-43BE-BB16-79BB6A8090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4143F7-A4AF-4F97-B050-8538C3F6A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B785F-0742-4AEE-B2ED-0847DCFF4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6B619-4C9D-4B12-AC2F-8F622877A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F61A5-A158-4584-8193-FF9DFA5890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2AE2E-AC3C-44F7-A506-D02808B56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0E1C1-B710-4878-9835-8402FF65A9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9913F3-EDB1-40BE-980E-71B1536DAB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B9B7-01B1-4EAB-A6B1-C952CDB8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0B1D1C-EB17-45FC-AFE9-3EED8A7265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7A0E07-5EF2-4503-9AE2-661E63EA99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39E67-F0FC-4D1B-A4BF-21B70CAE4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5874C-9F19-4861-90C7-2188FD86D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88BE10-1A00-4798-951B-771F34A8B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81B762-665D-41E1-8240-19D55EBC2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8EDD1-48C2-40B0-BD3E-5596F5B1AA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B4E4D-D46F-4C87-BFD2-D01386F6E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AC903-ED34-4FB8-8913-90FA0C2EF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9CBBC-4FAE-45AF-A58F-6F80E87DA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F3BA-43E1-4A4E-992C-DBED07180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1F516-9379-4024-88E7-35D6007A4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040998-7E15-412D-8FA2-8EDF502CD8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18EE9B-B1A9-4AAF-BE80-91C60066EB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FCA5B2-A137-4710-8791-58543FD8F0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EDAFA9-F643-4B30-9031-89C40E8EF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32624-8836-4811-8ACA-C4014223B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345405-9E20-4945-8F13-F798557CC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FD0478-9DE9-46F7-830F-3DFF654FDC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46769-C88E-4D3C-A090-E2370BB08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B750DD-EE88-4F88-823F-A8575A70C8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2E82-70D5-49D4-9CED-DADD38F97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047A7-C911-4C90-9BC7-94C9EC002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0F859-8927-429D-9011-A620FB6A4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9FEE31-3AD6-4FA7-8F89-1B9752931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5839A3-5ED1-4E98-9DCA-C40D36D19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B3DE16-282A-4977-AD5E-DA879D3C44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A80CE1-A036-4816-B106-9618405715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34D32-7DC6-4AF3-AC6A-8F3E63B78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F9EC2-4A35-43B4-A063-E682D01DA5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67A9A8-EEC5-4713-9433-B44A005E1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BCA6F9-5299-4B3D-BC48-380C4ACA2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C2E7-5602-4C8B-BCAA-076070469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0D1FAA-46CF-446B-99DC-7F66176D55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7A932-D79B-499D-A183-754AB23A8E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0F7AC3-C66D-4AE2-A617-2098EB0B4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59D84-64F0-45C4-B423-2C303EA056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E58AF2-924D-4EFC-81BB-ED2B0E0CB1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ABAC5D-ED92-45F3-98E3-B33B05ED32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690295-2BE6-402F-9E44-89D28DEDB9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C7745F-45FA-4CDA-993B-716FC3EB9F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749A6-BF4F-4958-A7DF-9A340D31A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DFF14B-5DD6-47A9-B02D-E7CCA18206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0.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4.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4.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C838-F22C-430A-B93E-0616ABBDAF82}"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9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00" name="PlaceHolder 3"/>
          <p:cNvSpPr>
            <a:spLocks noGrp="1"/>
          </p:cNvSpPr>
          <p:nvPr>
            <p:ph type="dt" idx="28"/>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01" name="PlaceHolder 4"/>
          <p:cNvSpPr>
            <a:spLocks noGrp="1"/>
          </p:cNvSpPr>
          <p:nvPr>
            <p:ph type="ftr" idx="29"/>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5"/>
          <p:cNvSpPr>
            <a:spLocks noGrp="1"/>
          </p:cNvSpPr>
          <p:nvPr>
            <p:ph type="sldNum" idx="30"/>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162E-A2B8-4898-B164-CDC99C110BFF}"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4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41" name="PlaceHolder 3"/>
          <p:cNvSpPr>
            <a:spLocks noGrp="1"/>
          </p:cNvSpPr>
          <p:nvPr>
            <p:ph type="dt" idx="31"/>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442" name="PlaceHolder 4"/>
          <p:cNvSpPr>
            <a:spLocks noGrp="1"/>
          </p:cNvSpPr>
          <p:nvPr>
            <p:ph type="ftr" idx="32"/>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PlaceHolder 5"/>
          <p:cNvSpPr>
            <a:spLocks noGrp="1"/>
          </p:cNvSpPr>
          <p:nvPr>
            <p:ph type="sldNum" idx="33"/>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9C50-9CDF-4493-94AB-0ADB038CC11F}"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8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82" name="PlaceHolder 3"/>
          <p:cNvSpPr>
            <a:spLocks noGrp="1"/>
          </p:cNvSpPr>
          <p:nvPr>
            <p:ph type="dt" idx="34"/>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483" name="PlaceHolder 4"/>
          <p:cNvSpPr>
            <a:spLocks noGrp="1"/>
          </p:cNvSpPr>
          <p:nvPr>
            <p:ph type="ftr" idx="35"/>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PlaceHolder 5"/>
          <p:cNvSpPr>
            <a:spLocks noGrp="1"/>
          </p:cNvSpPr>
          <p:nvPr>
            <p:ph type="sldNum" idx="36"/>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45A9-27CE-4756-9D65-9EE05B1ECD40}"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21"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2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5" name="PlaceHolder 3"/>
          <p:cNvSpPr>
            <a:spLocks noGrp="1"/>
          </p:cNvSpPr>
          <p:nvPr>
            <p:ph type="dt" idx="3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26" name="PlaceHolder 4"/>
          <p:cNvSpPr>
            <a:spLocks noGrp="1"/>
          </p:cNvSpPr>
          <p:nvPr>
            <p:ph type="ftr" idx="3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5"/>
          <p:cNvSpPr>
            <a:spLocks noGrp="1"/>
          </p:cNvSpPr>
          <p:nvPr>
            <p:ph type="sldNum" idx="3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2DC5-846D-4319-A806-523141AC4E76}"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564" name="Полилиния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Полилиния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68" name="PlaceHolder 3"/>
          <p:cNvSpPr>
            <a:spLocks noGrp="1"/>
          </p:cNvSpPr>
          <p:nvPr>
            <p:ph type="dt" idx="4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69" name="PlaceHolder 4"/>
          <p:cNvSpPr>
            <a:spLocks noGrp="1"/>
          </p:cNvSpPr>
          <p:nvPr>
            <p:ph type="ftr" idx="4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PlaceHolder 5"/>
          <p:cNvSpPr>
            <a:spLocks noGrp="1"/>
          </p:cNvSpPr>
          <p:nvPr>
            <p:ph type="sldNum" idx="4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CAE6-1AE1-41E1-93A8-3BC008E69A0A}" type="slidenum">
              <a:rPr b="0" lang="ru-RU"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0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09" name="PlaceHolder 3"/>
          <p:cNvSpPr>
            <a:spLocks noGrp="1"/>
          </p:cNvSpPr>
          <p:nvPr>
            <p:ph type="dt" idx="4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10" name="PlaceHolder 4"/>
          <p:cNvSpPr>
            <a:spLocks noGrp="1"/>
          </p:cNvSpPr>
          <p:nvPr>
            <p:ph type="ftr" idx="4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PlaceHolder 5"/>
          <p:cNvSpPr>
            <a:spLocks noGrp="1"/>
          </p:cNvSpPr>
          <p:nvPr>
            <p:ph type="sldNum" idx="4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82A5-8464-47A9-B48C-45F12461BB2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48"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5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52" name="PlaceHolder 3"/>
          <p:cNvSpPr>
            <a:spLocks noGrp="1"/>
          </p:cNvSpPr>
          <p:nvPr>
            <p:ph type="dt" idx="4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53" name="PlaceHolder 4"/>
          <p:cNvSpPr>
            <a:spLocks noGrp="1"/>
          </p:cNvSpPr>
          <p:nvPr>
            <p:ph type="ftr" idx="4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PlaceHolder 5"/>
          <p:cNvSpPr>
            <a:spLocks noGrp="1"/>
          </p:cNvSpPr>
          <p:nvPr>
            <p:ph type="sldNum" idx="4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7F8C-1E4A-48C8-BC99-B892ABC9F647}"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692"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93" name="PlaceHolder 3"/>
          <p:cNvSpPr>
            <a:spLocks noGrp="1"/>
          </p:cNvSpPr>
          <p:nvPr>
            <p:ph type="dt" idx="4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694" name="PlaceHolder 4"/>
          <p:cNvSpPr>
            <a:spLocks noGrp="1"/>
          </p:cNvSpPr>
          <p:nvPr>
            <p:ph type="ftr" idx="5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PlaceHolder 5"/>
          <p:cNvSpPr>
            <a:spLocks noGrp="1"/>
          </p:cNvSpPr>
          <p:nvPr>
            <p:ph type="sldNum" idx="5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7CAC-8FBB-47F9-BFBA-92467F569AEB}"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3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33" name="Скругленный прямоугольник 10"/>
          <p:cNvGrpSpPr/>
          <p:nvPr/>
        </p:nvGrpSpPr>
        <p:grpSpPr>
          <a:xfrm>
            <a:off x="414360" y="426960"/>
            <a:ext cx="8315280" cy="3121200"/>
            <a:chOff x="414360" y="426960"/>
            <a:chExt cx="8315280" cy="3121200"/>
          </a:xfrm>
        </p:grpSpPr>
        <p:pic>
          <p:nvPicPr>
            <p:cNvPr id="734"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735"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38" name="PlaceHolder 3"/>
          <p:cNvSpPr>
            <a:spLocks noGrp="1"/>
          </p:cNvSpPr>
          <p:nvPr>
            <p:ph type="dt" idx="52"/>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39" name="PlaceHolder 4"/>
          <p:cNvSpPr>
            <a:spLocks noGrp="1"/>
          </p:cNvSpPr>
          <p:nvPr>
            <p:ph type="ftr" idx="5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PlaceHolder 5"/>
          <p:cNvSpPr>
            <a:spLocks noGrp="1"/>
          </p:cNvSpPr>
          <p:nvPr>
            <p:ph type="sldNum" idx="54"/>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E144-6DF8-46F3-84A2-50D7ABFE72B3}"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7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78" name="Скругленный прямоугольник 10"/>
          <p:cNvGrpSpPr/>
          <p:nvPr/>
        </p:nvGrpSpPr>
        <p:grpSpPr>
          <a:xfrm>
            <a:off x="414360" y="426960"/>
            <a:ext cx="8315280" cy="4353120"/>
            <a:chOff x="414360" y="426960"/>
            <a:chExt cx="8315280" cy="4353120"/>
          </a:xfrm>
        </p:grpSpPr>
        <p:pic>
          <p:nvPicPr>
            <p:cNvPr id="779"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780"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78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783" name="PlaceHolder 3"/>
          <p:cNvSpPr>
            <a:spLocks noGrp="1"/>
          </p:cNvSpPr>
          <p:nvPr>
            <p:ph type="dt" idx="55"/>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84" name="PlaceHolder 4"/>
          <p:cNvSpPr>
            <a:spLocks noGrp="1"/>
          </p:cNvSpPr>
          <p:nvPr>
            <p:ph type="ftr" idx="56"/>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5"/>
          <p:cNvSpPr>
            <a:spLocks noGrp="1"/>
          </p:cNvSpPr>
          <p:nvPr>
            <p:ph type="sldNum" idx="57"/>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E220-6630-4726-9BA6-E0C37095FA7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4" name="Полилиния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олилиния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8"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49"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C257-63EF-4652-88A2-71E18947782F}" type="slidenum">
              <a:rPr b="0" lang="ru-RU"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22"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24"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25" name="PlaceHolder 3"/>
          <p:cNvSpPr>
            <a:spLocks noGrp="1"/>
          </p:cNvSpPr>
          <p:nvPr>
            <p:ph type="dt" idx="58"/>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826" name="PlaceHolder 4"/>
          <p:cNvSpPr>
            <a:spLocks noGrp="1"/>
          </p:cNvSpPr>
          <p:nvPr>
            <p:ph type="ftr" idx="59"/>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5"/>
          <p:cNvSpPr>
            <a:spLocks noGrp="1"/>
          </p:cNvSpPr>
          <p:nvPr>
            <p:ph type="sldNum" idx="60"/>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464A-8EAE-497B-95D2-4637B4B4A647}"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64"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86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68" name="PlaceHolder 3"/>
          <p:cNvSpPr>
            <a:spLocks noGrp="1"/>
          </p:cNvSpPr>
          <p:nvPr>
            <p:ph type="dt" idx="6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869" name="PlaceHolder 4"/>
          <p:cNvSpPr>
            <a:spLocks noGrp="1"/>
          </p:cNvSpPr>
          <p:nvPr>
            <p:ph type="ftr" idx="6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0" name="PlaceHolder 5"/>
          <p:cNvSpPr>
            <a:spLocks noGrp="1"/>
          </p:cNvSpPr>
          <p:nvPr>
            <p:ph type="sldNum" idx="6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4F64-3709-4C32-9602-BC6F2339600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908"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909" name="PlaceHolder 3"/>
          <p:cNvSpPr>
            <a:spLocks noGrp="1"/>
          </p:cNvSpPr>
          <p:nvPr>
            <p:ph type="dt" idx="6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910" name="PlaceHolder 4"/>
          <p:cNvSpPr>
            <a:spLocks noGrp="1"/>
          </p:cNvSpPr>
          <p:nvPr>
            <p:ph type="ftr" idx="6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PlaceHolder 5"/>
          <p:cNvSpPr>
            <a:spLocks noGrp="1"/>
          </p:cNvSpPr>
          <p:nvPr>
            <p:ph type="sldNum" idx="6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CC3B-D15E-4FD4-9C54-F986CCE89756}"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8" name="Прямоугольник 7"/>
          <p:cNvGrpSpPr/>
          <p:nvPr/>
        </p:nvGrpSpPr>
        <p:grpSpPr>
          <a:xfrm>
            <a:off x="2664000" y="-6480"/>
            <a:ext cx="6486480" cy="6870960"/>
            <a:chOff x="2664000" y="-6480"/>
            <a:chExt cx="6486480" cy="6870960"/>
          </a:xfrm>
        </p:grpSpPr>
        <p:pic>
          <p:nvPicPr>
            <p:cNvPr id="949" name="Прямоугольник 7" descr=""/>
            <p:cNvPicPr/>
            <p:nvPr/>
          </p:nvPicPr>
          <p:blipFill>
            <a:blip r:embed="rId3"/>
            <a:stretch/>
          </p:blipFill>
          <p:spPr>
            <a:xfrm>
              <a:off x="2664000" y="-6480"/>
              <a:ext cx="6486480" cy="6870960"/>
            </a:xfrm>
            <a:prstGeom prst="rect">
              <a:avLst/>
            </a:prstGeom>
            <a:ln w="0">
              <a:noFill/>
            </a:ln>
          </p:spPr>
        </p:pic>
        <p:sp>
          <p:nvSpPr>
            <p:cNvPr id="95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1"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5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54" name="PlaceHolder 3"/>
          <p:cNvSpPr>
            <a:spLocks noGrp="1"/>
          </p:cNvSpPr>
          <p:nvPr>
            <p:ph type="dt" idx="67"/>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955" name="PlaceHolder 4"/>
          <p:cNvSpPr>
            <a:spLocks noGrp="1"/>
          </p:cNvSpPr>
          <p:nvPr>
            <p:ph type="ftr" idx="68"/>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PlaceHolder 5"/>
          <p:cNvSpPr>
            <a:spLocks noGrp="1"/>
          </p:cNvSpPr>
          <p:nvPr>
            <p:ph type="sldNum" idx="6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A3BA-028F-45E8-BF6D-3B8E8D2411C2}"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3" name="Прямоугольник 8"/>
          <p:cNvGrpSpPr/>
          <p:nvPr/>
        </p:nvGrpSpPr>
        <p:grpSpPr>
          <a:xfrm>
            <a:off x="8150400" y="-6480"/>
            <a:ext cx="1000080" cy="6870960"/>
            <a:chOff x="8150400" y="-6480"/>
            <a:chExt cx="1000080" cy="6870960"/>
          </a:xfrm>
        </p:grpSpPr>
        <p:pic>
          <p:nvPicPr>
            <p:cNvPr id="994" name="Прямоугольник 8" descr=""/>
            <p:cNvPicPr/>
            <p:nvPr/>
          </p:nvPicPr>
          <p:blipFill>
            <a:blip r:embed="rId2"/>
            <a:stretch/>
          </p:blipFill>
          <p:spPr>
            <a:xfrm>
              <a:off x="8150400" y="-6480"/>
              <a:ext cx="1000080" cy="6870960"/>
            </a:xfrm>
            <a:prstGeom prst="rect">
              <a:avLst/>
            </a:prstGeom>
            <a:ln w="0">
              <a:noFill/>
            </a:ln>
          </p:spPr>
        </p:pic>
        <p:sp>
          <p:nvSpPr>
            <p:cNvPr id="99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9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98" name="PlaceHolder 3"/>
          <p:cNvSpPr>
            <a:spLocks noGrp="1"/>
          </p:cNvSpPr>
          <p:nvPr>
            <p:ph type="dt" idx="70"/>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99" name="PlaceHolder 4"/>
          <p:cNvSpPr>
            <a:spLocks noGrp="1"/>
          </p:cNvSpPr>
          <p:nvPr>
            <p:ph type="ftr" idx="71"/>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PlaceHolder 5"/>
          <p:cNvSpPr>
            <a:spLocks noGrp="1"/>
          </p:cNvSpPr>
          <p:nvPr>
            <p:ph type="sldNum" idx="7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45B2-9BCD-4B58-A8B7-5077FC9A1E4C}"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37"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04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041" name="PlaceHolder 3"/>
          <p:cNvSpPr>
            <a:spLocks noGrp="1"/>
          </p:cNvSpPr>
          <p:nvPr>
            <p:ph type="dt" idx="7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042" name="PlaceHolder 4"/>
          <p:cNvSpPr>
            <a:spLocks noGrp="1"/>
          </p:cNvSpPr>
          <p:nvPr>
            <p:ph type="ftr" idx="7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5"/>
          <p:cNvSpPr>
            <a:spLocks noGrp="1"/>
          </p:cNvSpPr>
          <p:nvPr>
            <p:ph type="sldNum" idx="7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8165-87F6-4D7A-82C3-35D5AF7D9D7C}"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0" name="Прямоугольник 8"/>
          <p:cNvGrpSpPr/>
          <p:nvPr/>
        </p:nvGrpSpPr>
        <p:grpSpPr>
          <a:xfrm>
            <a:off x="8150400" y="-6480"/>
            <a:ext cx="1000080" cy="6870960"/>
            <a:chOff x="8150400" y="-6480"/>
            <a:chExt cx="1000080" cy="6870960"/>
          </a:xfrm>
        </p:grpSpPr>
        <p:pic>
          <p:nvPicPr>
            <p:cNvPr id="1081" name="Прямоугольник 8" descr=""/>
            <p:cNvPicPr/>
            <p:nvPr/>
          </p:nvPicPr>
          <p:blipFill>
            <a:blip r:embed="rId2"/>
            <a:stretch/>
          </p:blipFill>
          <p:spPr>
            <a:xfrm>
              <a:off x="8150400" y="-6480"/>
              <a:ext cx="1000080" cy="6870960"/>
            </a:xfrm>
            <a:prstGeom prst="rect">
              <a:avLst/>
            </a:prstGeom>
            <a:ln w="0">
              <a:noFill/>
            </a:ln>
          </p:spPr>
        </p:pic>
        <p:sp>
          <p:nvSpPr>
            <p:cNvPr id="108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08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085" name="PlaceHolder 3"/>
          <p:cNvSpPr>
            <a:spLocks noGrp="1"/>
          </p:cNvSpPr>
          <p:nvPr>
            <p:ph type="dt" idx="76"/>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086" name="PlaceHolder 4"/>
          <p:cNvSpPr>
            <a:spLocks noGrp="1"/>
          </p:cNvSpPr>
          <p:nvPr>
            <p:ph type="ftr" idx="7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5"/>
          <p:cNvSpPr>
            <a:spLocks noGrp="1"/>
          </p:cNvSpPr>
          <p:nvPr>
            <p:ph type="sldNum" idx="7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A4C4-7E0F-43B1-9A37-1774B5A65B66}"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5" name="Группа 15"/>
          <p:cNvGrpSpPr/>
          <p:nvPr/>
        </p:nvGrpSpPr>
        <p:grpSpPr>
          <a:xfrm>
            <a:off x="-3240" y="4952880"/>
            <a:ext cx="9147240" cy="1911600"/>
            <a:chOff x="-3240" y="4952880"/>
            <a:chExt cx="9147240" cy="1911600"/>
          </a:xfrm>
        </p:grpSpPr>
        <p:sp>
          <p:nvSpPr>
            <p:cNvPr id="1126"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28" name="Полилиния 19"/>
            <p:cNvGrpSpPr/>
            <p:nvPr/>
          </p:nvGrpSpPr>
          <p:grpSpPr>
            <a:xfrm>
              <a:off x="2520" y="4992120"/>
              <a:ext cx="9141480" cy="1872360"/>
              <a:chOff x="2520" y="4992120"/>
              <a:chExt cx="9141480" cy="1872360"/>
            </a:xfrm>
          </p:grpSpPr>
          <p:pic>
            <p:nvPicPr>
              <p:cNvPr id="1129" name="Полилиния 19" descr=""/>
              <p:cNvPicPr/>
              <p:nvPr/>
            </p:nvPicPr>
            <p:blipFill>
              <a:blip r:embed="rId2"/>
              <a:stretch/>
            </p:blipFill>
            <p:spPr>
              <a:xfrm>
                <a:off x="2520" y="4992120"/>
                <a:ext cx="9141480" cy="1872360"/>
              </a:xfrm>
              <a:prstGeom prst="rect">
                <a:avLst/>
              </a:prstGeom>
              <a:ln w="0">
                <a:noFill/>
              </a:ln>
            </p:spPr>
          </p:pic>
          <p:sp>
            <p:nvSpPr>
              <p:cNvPr id="1130"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131"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34" name="PlaceHolder 3"/>
          <p:cNvSpPr>
            <a:spLocks noGrp="1"/>
          </p:cNvSpPr>
          <p:nvPr>
            <p:ph type="dt" idx="7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135" name="PlaceHolder 4"/>
          <p:cNvSpPr>
            <a:spLocks noGrp="1"/>
          </p:cNvSpPr>
          <p:nvPr>
            <p:ph type="ftr" idx="8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5"/>
          <p:cNvSpPr>
            <a:spLocks noGrp="1"/>
          </p:cNvSpPr>
          <p:nvPr>
            <p:ph type="sldNum" idx="8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04FE-A8E8-4FD0-A210-FF7E6ECD77D0}"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5" name="Прямоугольный треугольник 13"/>
          <p:cNvGrpSpPr/>
          <p:nvPr/>
        </p:nvGrpSpPr>
        <p:grpSpPr>
          <a:xfrm>
            <a:off x="-12600" y="5784840"/>
            <a:ext cx="3414600" cy="1092240"/>
            <a:chOff x="-12600" y="5784840"/>
            <a:chExt cx="3414600" cy="1092240"/>
          </a:xfrm>
        </p:grpSpPr>
        <p:pic>
          <p:nvPicPr>
            <p:cNvPr id="117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17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17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179"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8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83" name="PlaceHolder 3"/>
          <p:cNvSpPr>
            <a:spLocks noGrp="1"/>
          </p:cNvSpPr>
          <p:nvPr>
            <p:ph type="dt" idx="8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184" name="PlaceHolder 4"/>
          <p:cNvSpPr>
            <a:spLocks noGrp="1"/>
          </p:cNvSpPr>
          <p:nvPr>
            <p:ph type="ftr" idx="8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PlaceHolder 5"/>
          <p:cNvSpPr>
            <a:spLocks noGrp="1"/>
          </p:cNvSpPr>
          <p:nvPr>
            <p:ph type="sldNum" idx="8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C073-DAD2-414D-9F47-FD5A73E6A12E}"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2"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3"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24" name="Прямоугольный треугольник 13"/>
          <p:cNvGrpSpPr/>
          <p:nvPr/>
        </p:nvGrpSpPr>
        <p:grpSpPr>
          <a:xfrm>
            <a:off x="-12600" y="5784840"/>
            <a:ext cx="3414600" cy="1092240"/>
            <a:chOff x="-12600" y="5784840"/>
            <a:chExt cx="3414600" cy="1092240"/>
          </a:xfrm>
        </p:grpSpPr>
        <p:pic>
          <p:nvPicPr>
            <p:cNvPr id="1225"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22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227"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22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230" name="PlaceHolder 3"/>
          <p:cNvSpPr>
            <a:spLocks noGrp="1"/>
          </p:cNvSpPr>
          <p:nvPr>
            <p:ph type="dt" idx="8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231" name="PlaceHolder 4"/>
          <p:cNvSpPr>
            <a:spLocks noGrp="1"/>
          </p:cNvSpPr>
          <p:nvPr>
            <p:ph type="ftr" idx="8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PlaceHolder 5"/>
          <p:cNvSpPr>
            <a:spLocks noGrp="1"/>
          </p:cNvSpPr>
          <p:nvPr>
            <p:ph type="sldNum" idx="8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31B8-0872-4B3A-8AEB-BAF863B551AF}"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7"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8" name="Скругленный прямоугольник 8"/>
          <p:cNvGrpSpPr/>
          <p:nvPr/>
        </p:nvGrpSpPr>
        <p:grpSpPr>
          <a:xfrm>
            <a:off x="414360" y="426960"/>
            <a:ext cx="8315280" cy="5497560"/>
            <a:chOff x="414360" y="426960"/>
            <a:chExt cx="8315280" cy="5497560"/>
          </a:xfrm>
        </p:grpSpPr>
        <p:pic>
          <p:nvPicPr>
            <p:cNvPr id="89"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2"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A557-6BE2-4AC9-9A96-488BFB270A8E}"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271" name="PlaceHolder 3"/>
          <p:cNvSpPr>
            <a:spLocks noGrp="1"/>
          </p:cNvSpPr>
          <p:nvPr>
            <p:ph type="dt" idx="8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272" name="PlaceHolder 4"/>
          <p:cNvSpPr>
            <a:spLocks noGrp="1"/>
          </p:cNvSpPr>
          <p:nvPr>
            <p:ph type="ftr" idx="8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PlaceHolder 5"/>
          <p:cNvSpPr>
            <a:spLocks noGrp="1"/>
          </p:cNvSpPr>
          <p:nvPr>
            <p:ph type="sldNum" idx="9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7610-A3C1-4F37-B59B-15FB1E3C8ECB}"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2" name="Прямоугольный треугольник 13"/>
          <p:cNvGrpSpPr/>
          <p:nvPr/>
        </p:nvGrpSpPr>
        <p:grpSpPr>
          <a:xfrm>
            <a:off x="-12600" y="5784840"/>
            <a:ext cx="3414600" cy="1092240"/>
            <a:chOff x="-12600" y="5784840"/>
            <a:chExt cx="3414600" cy="1092240"/>
          </a:xfrm>
        </p:grpSpPr>
        <p:pic>
          <p:nvPicPr>
            <p:cNvPr id="1313"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315"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31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318" name="PlaceHolder 3"/>
          <p:cNvSpPr>
            <a:spLocks noGrp="1"/>
          </p:cNvSpPr>
          <p:nvPr>
            <p:ph type="dt" idx="9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319" name="PlaceHolder 4"/>
          <p:cNvSpPr>
            <a:spLocks noGrp="1"/>
          </p:cNvSpPr>
          <p:nvPr>
            <p:ph type="ftr" idx="9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PlaceHolder 5"/>
          <p:cNvSpPr>
            <a:spLocks noGrp="1"/>
          </p:cNvSpPr>
          <p:nvPr>
            <p:ph type="sldNum" idx="9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4CD-EA54-4812-870D-89A326246AA8}"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59" name="PlaceHolder 3"/>
          <p:cNvSpPr>
            <a:spLocks noGrp="1"/>
          </p:cNvSpPr>
          <p:nvPr>
            <p:ph type="dt" idx="9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360" name="PlaceHolder 4"/>
          <p:cNvSpPr>
            <a:spLocks noGrp="1"/>
          </p:cNvSpPr>
          <p:nvPr>
            <p:ph type="ftr" idx="9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PlaceHolder 5"/>
          <p:cNvSpPr>
            <a:spLocks noGrp="1"/>
          </p:cNvSpPr>
          <p:nvPr>
            <p:ph type="sldNum" idx="9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858A-A817-46B3-AE62-5E0DD7AF06DC}"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8" name="Полилиния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9"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00" name="Прямоугольный треугольник 16"/>
          <p:cNvGrpSpPr/>
          <p:nvPr/>
        </p:nvGrpSpPr>
        <p:grpSpPr>
          <a:xfrm>
            <a:off x="-12600" y="5784840"/>
            <a:ext cx="3414600" cy="1092240"/>
            <a:chOff x="-12600" y="5784840"/>
            <a:chExt cx="3414600" cy="1092240"/>
          </a:xfrm>
        </p:grpSpPr>
        <p:pic>
          <p:nvPicPr>
            <p:cNvPr id="1401"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14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403"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1404"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08" name="PlaceHolder 3"/>
          <p:cNvSpPr>
            <a:spLocks noGrp="1"/>
          </p:cNvSpPr>
          <p:nvPr>
            <p:ph type="dt" idx="9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409" name="PlaceHolder 4"/>
          <p:cNvSpPr>
            <a:spLocks noGrp="1"/>
          </p:cNvSpPr>
          <p:nvPr>
            <p:ph type="ftr" idx="9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0" name="PlaceHolder 5"/>
          <p:cNvSpPr>
            <a:spLocks noGrp="1"/>
          </p:cNvSpPr>
          <p:nvPr>
            <p:ph type="sldNum" idx="9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80C6-CB75-409B-BB4A-EDCB0C12A57F}"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3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34"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1CE0-186B-44E6-BF91-39070641D7BD}"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Прямоугольник 8"/>
          <p:cNvGrpSpPr/>
          <p:nvPr/>
        </p:nvGrpSpPr>
        <p:grpSpPr>
          <a:xfrm>
            <a:off x="8150400" y="-6480"/>
            <a:ext cx="1000080" cy="6870960"/>
            <a:chOff x="8150400" y="-6480"/>
            <a:chExt cx="1000080" cy="6870960"/>
          </a:xfrm>
        </p:grpSpPr>
        <p:pic>
          <p:nvPicPr>
            <p:cNvPr id="174" name="Прямоугольник 8" descr=""/>
            <p:cNvPicPr/>
            <p:nvPr/>
          </p:nvPicPr>
          <p:blipFill>
            <a:blip r:embed="rId2"/>
            <a:stretch/>
          </p:blipFill>
          <p:spPr>
            <a:xfrm>
              <a:off x="8150400" y="-6480"/>
              <a:ext cx="1000080" cy="6870960"/>
            </a:xfrm>
            <a:prstGeom prst="rect">
              <a:avLst/>
            </a:prstGeom>
            <a:ln w="0">
              <a:noFill/>
            </a:ln>
          </p:spPr>
        </p:pic>
        <p:sp>
          <p:nvSpPr>
            <p:cNvPr id="17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7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78"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79"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28CF-39E2-4033-9BB2-4E29B5F5C951}"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9" name="Прямоугольный треугольник 13"/>
          <p:cNvGrpSpPr/>
          <p:nvPr/>
        </p:nvGrpSpPr>
        <p:grpSpPr>
          <a:xfrm>
            <a:off x="-12600" y="5784840"/>
            <a:ext cx="3414600" cy="1092240"/>
            <a:chOff x="-12600" y="5784840"/>
            <a:chExt cx="3414600" cy="1092240"/>
          </a:xfrm>
        </p:grpSpPr>
        <p:pic>
          <p:nvPicPr>
            <p:cNvPr id="220"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2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22"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2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0E2E-6B68-409F-B26F-9F406C0AC59A}"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0" name="PlaceHolder 3"/>
          <p:cNvSpPr>
            <a:spLocks noGrp="1"/>
          </p:cNvSpPr>
          <p:nvPr>
            <p:ph type="dt" idx="19"/>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271" name="PlaceHolder 4"/>
          <p:cNvSpPr>
            <a:spLocks noGrp="1"/>
          </p:cNvSpPr>
          <p:nvPr>
            <p:ph type="ftr" idx="20"/>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type="sldNum" idx="21"/>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2AFE-1E0D-4313-9081-4537FF2ECEA3}"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0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14" name="PlaceHolder 3"/>
          <p:cNvSpPr>
            <a:spLocks noGrp="1"/>
          </p:cNvSpPr>
          <p:nvPr>
            <p:ph type="dt" idx="22"/>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315" name="PlaceHolder 4"/>
          <p:cNvSpPr>
            <a:spLocks noGrp="1"/>
          </p:cNvSpPr>
          <p:nvPr>
            <p:ph type="ftr" idx="23"/>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DA4E-06F8-41FE-BC60-7438F913E641}"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5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5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59" name="PlaceHolder 3"/>
          <p:cNvSpPr>
            <a:spLocks noGrp="1"/>
          </p:cNvSpPr>
          <p:nvPr>
            <p:ph type="dt" idx="25"/>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360" name="PlaceHolder 4"/>
          <p:cNvSpPr>
            <a:spLocks noGrp="1"/>
          </p:cNvSpPr>
          <p:nvPr>
            <p:ph type="ftr" idx="26"/>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PlaceHolder 5"/>
          <p:cNvSpPr>
            <a:spLocks noGrp="1"/>
          </p:cNvSpPr>
          <p:nvPr>
            <p:ph type="sldNum" idx="27"/>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BED0-4B34-41A6-AE8E-396F104B5129}"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7" name="Picture 2" descr=""/>
          <p:cNvPicPr/>
          <p:nvPr/>
        </p:nvPicPr>
        <p:blipFill>
          <a:blip r:embed="rId1"/>
          <a:stretch/>
        </p:blipFill>
        <p:spPr>
          <a:xfrm>
            <a:off x="179280" y="0"/>
            <a:ext cx="8964720" cy="6819840"/>
          </a:xfrm>
          <a:prstGeom prst="rect">
            <a:avLst/>
          </a:prstGeom>
          <a:ln w="0">
            <a:noFill/>
          </a:ln>
        </p:spPr>
      </p:pic>
      <p:pic>
        <p:nvPicPr>
          <p:cNvPr id="1448" name="Заголовок 1" descr=""/>
          <p:cNvPicPr/>
          <p:nvPr/>
        </p:nvPicPr>
        <p:blipFill>
          <a:blip r:embed="rId2"/>
          <a:stretch/>
        </p:blipFill>
        <p:spPr>
          <a:xfrm>
            <a:off x="536400" y="768240"/>
            <a:ext cx="832644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txBox="1"/>
          <p:nvPr/>
        </p:nvSpPr>
        <p:spPr>
          <a:xfrm>
            <a:off x="287280" y="404280"/>
            <a:ext cx="8856720" cy="61945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Lucida Sans Unicode"/>
              </a:rPr>
              <a:t>Изучение изолированных рибосомных РНК дало следующий разительный пример формирования компактных специфических структур из еще более длинных линейных полимеров этого типа. Рибосома состоит из двух неравных частей - большой и малой рибосомных субчастиц (субъединиц). Каждая субчастица построена из одной высокополимерной РНК и целого ряда разнообразных рибосомных белков. Длина цепей рибосомных РНК весьма значительна: так, РНК малой субчастицы бактериальной рибосомы содержит более 1500 нуклеотидов, а РНК большой субчастицы - около 3000 нуклеотидов. У млекопитающих, включая человека, эти РНК еще больше - около 1900 нуклеотидов и более 5000 нуклеотидов в малой и большой субчастицах соответственно.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6" name="Заголовок 1" descr=""/>
          <p:cNvPicPr/>
          <p:nvPr/>
        </p:nvPicPr>
        <p:blipFill>
          <a:blip r:embed="rId1"/>
          <a:stretch/>
        </p:blipFill>
        <p:spPr>
          <a:xfrm>
            <a:off x="676440" y="5297400"/>
            <a:ext cx="8285040" cy="1408320"/>
          </a:xfrm>
          <a:prstGeom prst="rect">
            <a:avLst/>
          </a:prstGeom>
          <a:ln w="0">
            <a:noFill/>
          </a:ln>
        </p:spPr>
      </p:pic>
      <p:pic>
        <p:nvPicPr>
          <p:cNvPr id="1467" name="Picture 2" descr=""/>
          <p:cNvPicPr/>
          <p:nvPr/>
        </p:nvPicPr>
        <p:blipFill>
          <a:blip r:embed="rId2"/>
          <a:stretch/>
        </p:blipFill>
        <p:spPr>
          <a:xfrm>
            <a:off x="1258920" y="260280"/>
            <a:ext cx="6697800" cy="48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457200" y="259920"/>
            <a:ext cx="8229600" cy="6194520"/>
          </a:xfrm>
          <a:prstGeom prst="rect">
            <a:avLst/>
          </a:prstGeom>
          <a:noFill/>
          <a:ln w="0">
            <a:noFill/>
          </a:ln>
        </p:spPr>
        <p:txBody>
          <a:bodyPr anchor="t">
            <a:normAutofit/>
          </a:bodyPr>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Arial"/>
              </a:rPr>
              <a:t>Минорные РНК</a:t>
            </a:r>
            <a:r>
              <a:rPr b="0" lang="ru-RU" sz="1700" spc="-1" strike="noStrike">
                <a:solidFill>
                  <a:srgbClr val="ffffff"/>
                </a:solidFill>
                <a:latin typeface="Arial"/>
              </a:rPr>
              <a:t>. По мере изучения компонентов живой клетки и отдельных фракций тотальной клеточной РНК выяснялось, что тремя главными видами РНК дело не ограничивается. Оказалось, что в природе существует множество других видов РНК. Это, в первую очередь, так называемые "малые РНК", которые содержат до 300 нуклеотидов, часто с неизвестными функциями. Как правило, они ассоциированы с одним или несколькими белками и представлены в клетке в виде рибонуклеопротеидов - "малых РНП" . </a:t>
            </a:r>
            <a:endParaRPr b="0" lang="en-US" sz="1700" spc="-1" strike="noStrike">
              <a:solidFill>
                <a:srgbClr val="ffffff"/>
              </a:solidFill>
              <a:latin typeface="Arial"/>
            </a:endParaRPr>
          </a:p>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4190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a:rPr>
              <a:t>Малые РНК присутствуют во всех отделах клетки, включая цитоплазму, ядро, ядрышко, ми-тохондрии. Большая часть тех малых РНП, функции которых известны, участвует в механизмах посттранскрипционной обработки главных видов РНК (RNA processing) - превращении предшественников мРНК в зрелые мРНК (сплайсинг), редактировании мРНК, биогенезе тРНК, созревании рибосомных РНК. Один из наиболее богато представленных в клетках видов малых РНП (SRP) играет ключевую роль в транспорте синтезируемых белков через клеточную мембрану. Известны виды малых РНК, выполняющих регуляторные функции в трансляции. Специальная малая РНК входит в состав важнейшего фермента, ответственного за поддержание редупликации ДНК в поколениях клеток - теломеразы. Следует сказать, что их молекулярные размеры сопоставимы с размерами клеточных глобулярных белков. Таким образом, постепенно становится ясно, что функционирование живой клетки определяется не только многообразием синтезируемых в ней белков, но и присутствием богатого набора разнообразных РНК, из которых малые РНК в значительной мере имитируют компактность и размеры белков.</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1470" name=""/>
          <p:cNvSpPr txBox="1"/>
          <p:nvPr/>
        </p:nvSpPr>
        <p:spPr>
          <a:xfrm>
            <a:off x="456840" y="999720"/>
            <a:ext cx="7829640" cy="512604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ло показано, что изолированные рибосомные РНК, отделенные от их белковых партнеров и полученные в чистом виде, сами способны спонтанно сворачиваться в компактные структуры, по своим размерам и форме похожие на рибосомные субчастицы . Форма большой и малой субчастиц разная, и соответственно различается форма большой и малой рибосомных РНК (рис. 4). Таким образом, линейные цепи рибосомной РНК самоорганизуются в специфические пространственные структуры, определяющие размеры, форму и, по-видимому, внутреннее устройство рибосомных субчастиц, а следовательно, и всей рибосомы.</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txBox="1"/>
          <p:nvPr/>
        </p:nvSpPr>
        <p:spPr>
          <a:xfrm>
            <a:off x="250560" y="333360"/>
            <a:ext cx="8435880" cy="6121440"/>
          </a:xfrm>
          <a:prstGeom prst="rect">
            <a:avLst/>
          </a:prstGeom>
          <a:noFill/>
          <a:ln w="0">
            <a:noFill/>
          </a:ln>
        </p:spPr>
        <p:txBody>
          <a:bodyPr anchor="t">
            <a:normAutofit/>
          </a:bodyPr>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entury Gothic"/>
              </a:rPr>
              <a:t>Рибозимы.</a:t>
            </a:r>
            <a:r>
              <a:rPr b="0" lang="ru-RU" sz="2600" spc="-1" strike="noStrike">
                <a:solidFill>
                  <a:srgbClr val="ffffff"/>
                </a:solidFill>
                <a:latin typeface="Century Gothic"/>
              </a:rPr>
              <a:t> Вся активная жизнь построена на обмене веществ - метаболизме, и все биохимические реакции метаболизма происходят с надлежащими для обеспечения жизни скоростями только благодаря высокоэффективным специфическим катализаторам, созданным эволюцией. На протяжении многих десятилетий биохимики были уверены, что биологический катализ всегда и всюду осуществляется белками, называемыми ферментами, или энзимами. И вот в 1982-1983 гг. было показано, что в природе имеются виды РНК, которые, подобно белкам, обладают высокоспецифической каталитической активностью. Такие РНК-катализаторы были названы рибозимами. Представлению об исключительности белков в катализе биохимических реакций пришел конец. </a:t>
            </a:r>
            <a:endParaRPr b="0" lang="en-US" sz="2600" spc="-1" strike="noStrike">
              <a:solidFill>
                <a:srgbClr val="ffffff"/>
              </a:solidFill>
              <a:latin typeface="Century Gothic"/>
            </a:endParaRPr>
          </a:p>
          <a:p>
            <a:pPr marL="447840" indent="-3826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5c9c"/>
              </a:solidFill>
              <a:latin typeface="Century Gothic"/>
            </a:endParaRPr>
          </a:p>
        </p:txBody>
      </p:sp>
      <p:sp>
        <p:nvSpPr>
          <p:cNvPr id="1473" name=""/>
          <p:cNvSpPr txBox="1"/>
          <p:nvPr/>
        </p:nvSpPr>
        <p:spPr>
          <a:xfrm>
            <a:off x="457200" y="642960"/>
            <a:ext cx="8229600" cy="581184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entury Gothic"/>
              </a:rPr>
              <a:t>В настоящее время рибосому тоже принято рассматривать как рибозим. Действительно, все имеющиеся экспериментальные данные свидетельствуют о том, что синтез полипептидной цепи белка в рибосоме катализируется рибосомной РНК, а не рибосомными белками. Идентифицирован каталитический участок большой рибосомной РНК, ответственный за катализ реакции транспептидации, посредством которой осуществляется наращивание полипептидной цепи белка в процессе трансляции.</a:t>
            </a:r>
            <a:endParaRPr b="0" lang="en-US" sz="2400" spc="-1" strike="noStrike">
              <a:solidFill>
                <a:srgbClr val="ffffff"/>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108000" y="0"/>
            <a:ext cx="8928000" cy="685800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Lucida Sans Unicode"/>
              </a:rPr>
              <a:t>Вирусные РНК</a:t>
            </a:r>
            <a:r>
              <a:rPr b="1" lang="ru-RU" sz="2500" spc="-1" strike="noStrike">
                <a:solidFill>
                  <a:srgbClr val="000000"/>
                </a:solidFill>
                <a:latin typeface="Lucida Sans Unicode"/>
              </a:rPr>
              <a:t>. </a:t>
            </a:r>
            <a:r>
              <a:rPr b="0" lang="ru-RU" sz="2300" spc="-1" strike="noStrike">
                <a:solidFill>
                  <a:srgbClr val="000000"/>
                </a:solidFill>
                <a:latin typeface="Lucida Sans Unicode"/>
              </a:rPr>
              <a:t>Кроме нуклеиновых кислот (ДНК и РНК), организующих и обслуживающих жизнь клеточных организмов, в природе существуют паразитические молекулы ДНК и РНК. Одетые в защитную белковую оболочку, они называются вирусами. Соответственно, вирусы подразделяются на ДНК-содержащие и РНК-содержащие. Собственно в самих вирусных частицах никакой жизни нет - это просто способ упаковки, консервации и распространения внеклеточного генетического вещества. При попадании в живую клетку вирусная белковая оболочка сбрасывается, а генетическое вещество - нуклеиновая кислота - начинает функционировать как паразит, направляя жизнь клетки на синтез белков, ею кодируемых, и на репликацию самой себя. Так называемое "размножение" вирусов в клетке есть производство многочисленных копий вирусной ДНК или РНК путем репликации, с последующим их "одеванием" в оболочку из синтезированных клеткой вирусных белков. </a:t>
            </a: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457200" y="571680"/>
            <a:ext cx="8229600" cy="5435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Что касается репликации вирусных ДНК, то ее механизм мало чем отличается от редупликации генетического материала - ДНК - самой клетки. В случае же вирусных РНК реализуются процессы, которые подавлены или вовсе отсутствуют в нормальных клетках, где вся РНК синтезируется только на ДНК как на матрице. При инфекции РНК-содержащими вирусами ситуация может быть двоякой. В одних случаях на вирусной РНК как на матрице синтезируется ДНК ("обратная транскрипция"), а уж на этой ДНК транскрибируются многочисленные копии вирусной РНК. В других, наиболее интересных для нас случаях на вирусной РНК синтезируется комплементарная цепь РНК, которая и служит матрицей для синтеза - репликации - новых копий вирусной РНК. Таким образом при инфекции РНК-содержащими вирусами реализуется принципиальная способность РНК детерминировать воспроизведение своей собственной структуры, как это имеет место у ДНК.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К РНК-содержащим вирусам примыкает другая группа молекулярных паразитов - вироиды. Это патогенные РНК, не содержащие и не кодирующие никаких белков, но тоже способные к репликации в живых системах. Тем самым вирусные и вироидные РНК демонстрируют способность РНК не только кодировать белки, но и служить полноценным воспроизводящимся генетическим материалом. Вирусы и вироиды часто рассматриваются как эволюционные реликты, и процесс репликации РНК без участия ДНК может отражать очень ранний этап эволюции жизни, когда ДНК еще не утвердилась в качестве специализированной формы хранения и воспроизведения генетической информации в поколениях клеток.</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txBox="1"/>
          <p:nvPr/>
        </p:nvSpPr>
        <p:spPr>
          <a:xfrm>
            <a:off x="179280" y="115920"/>
            <a:ext cx="8507520" cy="6626160"/>
          </a:xfrm>
          <a:prstGeom prst="rect">
            <a:avLst/>
          </a:prstGeom>
          <a:noFill/>
          <a:ln w="0">
            <a:noFill/>
          </a:ln>
        </p:spPr>
        <p:txBody>
          <a:bodyPr anchor="t">
            <a:normAutofit/>
          </a:bodyPr>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ffff"/>
                </a:solidFill>
                <a:latin typeface="Century Gothic"/>
              </a:rPr>
              <a:t>Мультифункциональность РНК. </a:t>
            </a:r>
            <a:r>
              <a:rPr b="0" lang="ru-RU" sz="1900" spc="-1" strike="noStrike">
                <a:solidFill>
                  <a:srgbClr val="ffffff"/>
                </a:solidFill>
                <a:latin typeface="Century Gothic"/>
              </a:rPr>
              <a:t>Суммирование и обзор знаний о функциях РНК позволяют говорить о необыкновенной многофункциональности этого полимера в живой природе. Можно дать следующий список основных известных функций РНК.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Генетическая репликативная функция: структурная возможность копирования (репликации) линейных последовательностей нуклеотидов через комплементарные последовательности. Функция реализуется при вирусных инфекциях и аналогична главной функции ДНК в жизнедеятельности клеточных организмов - редупликации генетического материал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Кодирующая функция: программирование белкового синтеза линейными последовательностями нуклеотидов. Это та же функция, что и у ДНК. И в ДНК, и в РНК одни и те же триплеты нуклеотидов кодируют 20 аминокислот белков, и последовательность триплетов в цепи нуклеиновой кислоты есть программа для последовательной расстановки 20 видов аминокислот в полипептидной цепи белк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 </a:t>
            </a:r>
            <a:r>
              <a:rPr b="0" lang="ru-RU" sz="1900" spc="-1" strike="noStrike">
                <a:solidFill>
                  <a:srgbClr val="ffffff"/>
                </a:solidFill>
                <a:latin typeface="Century Gothic"/>
              </a:rPr>
              <a:t>Структурообразующая функция: формирование уникальных трехмерных структур. Компактно свернутые молекулы малых РНК принципиально подобны трехмерным структурам глобулярных белков, а более длинные молекулы РНК могут образовывать и более крупные биологические частицы или их ядра. </a:t>
            </a: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txBox="1"/>
          <p:nvPr/>
        </p:nvSpPr>
        <p:spPr>
          <a:xfrm>
            <a:off x="0" y="0"/>
            <a:ext cx="9036000" cy="6742080"/>
          </a:xfrm>
          <a:prstGeom prst="rect">
            <a:avLst/>
          </a:prstGeom>
          <a:noFill/>
          <a:ln w="0">
            <a:noFill/>
          </a:ln>
        </p:spPr>
        <p:txBody>
          <a:bodyPr anchor="t">
            <a:normAutofit/>
          </a:bodyPr>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     </a:t>
            </a:r>
            <a:r>
              <a:rPr b="0" lang="ru-RU" sz="2100" spc="-1" strike="noStrike">
                <a:solidFill>
                  <a:srgbClr val="ffffff"/>
                </a:solidFill>
                <a:latin typeface="Arial"/>
              </a:rPr>
              <a:t>Почти полвека тому назад, в 1953 г., Д. Уотсон и Ф. Крик открыли принцип структурной (молекулярной) организации генного вещества - дезоксирибонуклеиновой кислоты (ДНК) . Структура ДНК дала ключ к механизму точного воспроизведения - редупликации - генного вещества . Так возникла новая наука - молекулярная биология. Была сформулирована так называемая центральная догма молекулярной биологии: ДНК Ю РНК Ю белок. Смысл ее состоит в том, что генетическая информация, записанная в ДНК, реализуется в виде белков, но не непосредственно, а через посредство родственного полимера - рибонуклеиновую кислоту (РНК), и этот путь от нуклеиновых кислот к белкам необратим. Таким образом, ДНК синтезируется на ДНК, обеспечивая собственную редупликацию, то есть воспроизведение исходного генетического материала в поколениях; РНК синтезируется на ДНК, в результате чего происходит переписывание, или транскрипция, генетической информации в форму многочисленных копий РНК; молекулы РНК служат матрицами для синтеза белков - генетическая информация транслируется в форму полипептидных цепей. В специальных случаях РНК может переписываться в форму ДНК ("обратная транскрипция"), а также копироваться в виде РНК (репликация), но белок никогда не может быть матрицей для нуклеиновых кислот . </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ff5c9c"/>
              </a:solidFill>
              <a:latin typeface="Century Gothic"/>
            </a:endParaRPr>
          </a:p>
        </p:txBody>
      </p:sp>
      <p:sp>
        <p:nvSpPr>
          <p:cNvPr id="1481" name=""/>
          <p:cNvSpPr txBox="1"/>
          <p:nvPr/>
        </p:nvSpPr>
        <p:spPr>
          <a:xfrm>
            <a:off x="457200" y="357120"/>
            <a:ext cx="8229600" cy="6097680"/>
          </a:xfrm>
          <a:prstGeom prst="rect">
            <a:avLst/>
          </a:prstGeom>
          <a:noFill/>
          <a:ln w="0">
            <a:noFill/>
          </a:ln>
        </p:spPr>
        <p:txBody>
          <a:bodyPr anchor="t">
            <a:normAutofit/>
          </a:bodyPr>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 </a:t>
            </a:r>
            <a:r>
              <a:rPr b="0" lang="ru-RU" sz="1800" spc="-1" strike="noStrike">
                <a:solidFill>
                  <a:srgbClr val="ffffff"/>
                </a:solidFill>
                <a:latin typeface="Century Gothic"/>
              </a:rPr>
              <a:t>Функция узнавания: высокоспецифические пространственные взаимодействия с другими макромолекулами (в том числе белками и другими РНК) и с малыми лигандами. Эта функция, пожалуй, главная у белков. Она основана на способности полимера сворачиваться уникальным образом и формировать специфические трехмерные структуры. Функция узнавания является базой специфического катализа. </a:t>
            </a:r>
            <a:endParaRPr b="0" lang="en-US" sz="1800" spc="-1" strike="noStrike">
              <a:solidFill>
                <a:srgbClr val="ffffff"/>
              </a:solidFill>
              <a:latin typeface="Century Gothic"/>
            </a:endParaRPr>
          </a:p>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Каталитическая функция: специфический катализ химических реакций рибозимами. Данная функция аналогична энзиматической функции белков-ферментов. </a:t>
            </a:r>
            <a:endParaRPr b="0" lang="en-US" sz="1800" spc="-1" strike="noStrike">
              <a:solidFill>
                <a:srgbClr val="ffffff"/>
              </a:solidFill>
              <a:latin typeface="Century Gothic"/>
            </a:endParaRPr>
          </a:p>
          <a:p>
            <a:pPr marL="4478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целом РНК предстает перед нами столь удивительным полимером, что, казалось бы, ни времени эволюции Вселенной, ни интеллекта Творца не должно было бы хватить на ее изобретение. Как можно было видеть, РНК способна выполнять функции обоих принципиально важных для жизни полимеров - ДНК и белков. Неудивительно, что перед наукой и встал вопрос: а не могло ли возникновение и самодостаточное существование мира РНК предшествовать появлению жизни в ее современной ДНК-белковой форме?</a:t>
            </a:r>
            <a:endParaRPr b="0" lang="en-US" sz="1800" spc="-1" strike="noStrike">
              <a:solidFill>
                <a:srgbClr val="ffffff"/>
              </a:solidFill>
              <a:latin typeface="Century Gothic"/>
            </a:endParaRPr>
          </a:p>
          <a:p>
            <a:pPr marL="447840" indent="-38268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
          <p:cNvSpPr txBox="1"/>
          <p:nvPr/>
        </p:nvSpPr>
        <p:spPr>
          <a:xfrm>
            <a:off x="456840" y="356760"/>
            <a:ext cx="7467480" cy="5000760"/>
          </a:xfrm>
          <a:prstGeom prst="rect">
            <a:avLst/>
          </a:prstGeom>
          <a:noFill/>
          <a:ln w="0">
            <a:noFill/>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так, именно ДНК определяет наследственность организмов, то есть воспроизводящийся в поколениях набор белков и связанных с ними признаков. Биосинтез белка является центральным процессом живой материи, а нуклеиновые кислоты обеспечивают его, с одной стороны, программой, определяющей весь набор и специфику синтезируемых белков, а с другой - механизмом точного воспроизведения этой программы в поколениях. Следовательно, происхождение жизни в ее современной клеточной форме сводится к возникновению механизма наследуемого биосинтеза белков.</a:t>
            </a:r>
            <a:endParaRPr b="0" lang="en-US" sz="20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68200"/>
            <a:ext cx="8229600" cy="100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БИОСИНТЕЗ БЕЛКОВ</a:t>
            </a:r>
            <a:endParaRPr b="1" lang="en-US" sz="3600" spc="-1" strike="noStrike">
              <a:solidFill>
                <a:srgbClr val="ff8d3e"/>
              </a:solidFill>
              <a:latin typeface="Verdana"/>
            </a:endParaRPr>
          </a:p>
        </p:txBody>
      </p:sp>
      <p:sp>
        <p:nvSpPr>
          <p:cNvPr id="1452" name=""/>
          <p:cNvSpPr txBox="1"/>
          <p:nvPr/>
        </p:nvSpPr>
        <p:spPr>
          <a:xfrm>
            <a:off x="179280" y="1267920"/>
            <a:ext cx="8785440" cy="518652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Центральная догма молекулярной биологии постулирует лишь путь передачи генетической информации от нуклеиновых кислот к белкам и, следовательно, к свойствам и признакам живого организма. Изучение механизмов реализации этого пути на протяжении десятилетий, последовавших за формулировкой центральной догмы, вскрыло гораздо более разнообразные функции РНК, чем быть только переносчиком информации от генов (ДНК) к белкам и служить матрицей для синтеза белков.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На рис. 1 представлена общая схема биосинтеза белка в клетке. РНК-посредник (messenger RNA, матричная РНК, мРНК), кодирующая белки, о которой и шла речь выше, - это лишь один из трех главных классов клеточных РНК. Основную их массу (около 80%) составляет другой класс РНК - рибосомные РНК, которые образуют структурный каркас и функциональные центры универсальных белок-синтезирующих частиц - рибосом. Именно рибосомные РНК ответственны - как в структурном, так и в функциональном отношении - за формирование ультрамикроскопических молекулярных машин, называемых рибосомами. Рибосомы воспринимают генетическую информацию в виде молекул мРНК и, будучи запрограммированы последними, делают белки в точном соответствии с данной программой.</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3" name="Picture 2" descr=""/>
          <p:cNvPicPr/>
          <p:nvPr/>
        </p:nvPicPr>
        <p:blipFill>
          <a:blip r:embed="rId1"/>
          <a:stretch/>
        </p:blipFill>
        <p:spPr>
          <a:xfrm>
            <a:off x="0" y="0"/>
            <a:ext cx="9144000" cy="6824520"/>
          </a:xfrm>
          <a:prstGeom prst="rect">
            <a:avLst/>
          </a:prstGeom>
          <a:ln w="0">
            <a:noFill/>
          </a:ln>
        </p:spPr>
      </p:pic>
      <p:pic>
        <p:nvPicPr>
          <p:cNvPr id="1454" name="Заголовок 1" descr=""/>
          <p:cNvPicPr/>
          <p:nvPr/>
        </p:nvPicPr>
        <p:blipFill>
          <a:blip r:embed="rId2"/>
          <a:stretch/>
        </p:blipFill>
        <p:spPr>
          <a:xfrm>
            <a:off x="-6480" y="-6480"/>
            <a:ext cx="271332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txBox="1"/>
          <p:nvPr/>
        </p:nvSpPr>
        <p:spPr>
          <a:xfrm>
            <a:off x="0" y="0"/>
            <a:ext cx="9144000" cy="6858000"/>
          </a:xfrm>
          <a:prstGeom prst="rect">
            <a:avLst/>
          </a:prstGeom>
          <a:noFill/>
          <a:ln w="0">
            <a:noFill/>
          </a:ln>
        </p:spPr>
        <p:txBody>
          <a:bodyPr anchor="t">
            <a:normAutofit/>
          </a:bodyPr>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ако, чтобы синтезировать белки, одной только информации или программы недостаточно - нужен еще и материал, из которого их можно делать. Поток материала для синтеза белков идет в рибосомы через посредство третьего класса клеточных РНК - РНК-переносчиков (transfer RNA, транспортные РНК, тРНК). Они ковалентно связывают - акцептируют - аминокислоты, которые служат строительным материалом для беЛков, и в виде аминоацил-тРНК поступают в рибосомы. В рибосомах аминоацил-тРНК взаимодействуют с кодонами - трехнуклеотидными комбинациями - мРНК, в результате чего и происходит декодирование кодонов в процессе трансляции.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РИБОНУКЛЕИНОВЫЕ КИСЛОТЫ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так, перед нами набор главных клеточных РНК, определяющих основной процесс современной живой материи - биосинтез белка. Это мРНК, рибосомные РНК и тРНК. РНК синтезируются на ДНК с помощью ферментов - РНК-полимераз, осуществляющих транскрипцию - переписывание определенных участков (линейных отрезков) двутяжевой ДНК в форму однотяжевой РНК. Участки ДНК, кодирующие клеточные белки, переписываются в виде мРНК, тогда как для синтеза многочисленных копий рибосомной РНК и тРНК имеются специальные участки клеточного генома, с которых идет интенсивное переписывание без последующей трансляции в белки. </a:t>
            </a: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Химическая структура РНК. Химически РНК очень похожа на ДНК. Оба вещества - это линейные полимеры нуклеотидов. Каждый мономер - нуклеотид - представляет собой фосфорилированный N-гликозид, построенный из остатка пятиуглеродного сахара - пентозы, несущего фосфатную группу на гидроксильной группе пятого углеродного атома (сложноэфирная связь) и азотистое основание при первом углеродном атоме (N-гликозидная связь). Главное химическое различие между ДНК и РНК состоит в том, что сахарный остаток мономера РНК - это рибоза, а мономера ДНК - дезоксирибоза, являющаяся производным рибозы, в котором отсутствует гидроксильная группа при втором углеродном атоме (рис. 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6" name="Picture 2" descr=""/>
          <p:cNvPicPr/>
          <p:nvPr/>
        </p:nvPicPr>
        <p:blipFill>
          <a:blip r:embed="rId1"/>
          <a:stretch/>
        </p:blipFill>
        <p:spPr>
          <a:xfrm>
            <a:off x="0" y="189000"/>
            <a:ext cx="2181240" cy="6048360"/>
          </a:xfrm>
          <a:prstGeom prst="rect">
            <a:avLst/>
          </a:prstGeom>
          <a:ln w="0">
            <a:noFill/>
          </a:ln>
        </p:spPr>
      </p:pic>
      <p:sp>
        <p:nvSpPr>
          <p:cNvPr id="1457" name=""/>
          <p:cNvSpPr txBox="1"/>
          <p:nvPr/>
        </p:nvSpPr>
        <p:spPr>
          <a:xfrm>
            <a:off x="2268000" y="0"/>
            <a:ext cx="6875640" cy="6858000"/>
          </a:xfrm>
          <a:prstGeom prst="rect">
            <a:avLst/>
          </a:prstGeom>
          <a:noFill/>
          <a:ln w="0">
            <a:noFill/>
          </a:ln>
        </p:spPr>
        <p:txBody>
          <a:bodyPr anchor="t">
            <a:normAutofit/>
          </a:bodyPr>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Азотистых оснований и в ДНК, и в РНК четыре вида: два пуриновых - аденин (А) и гуанин (G) -и два пиримидиновых - цитозин (С) и урацил (U) или его метилированное производное тимин (Т).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Урацил характерен для мономеров РНК, а тимин - для мономеров ДНК, и это второе различие РНК и ДНК. Мономеры - рибонуклеотиды РНК или дезоксирибонуклеотиды ДНК - образуют полимерную цепь посредством формирования фосфодиэфирных мостиков между сахарными остатками (между пятым и третьим атомами углерода пентозы). Таким образом, полимерная цепь нуклеиновой кислоты - ДНК или РНК - может быть представлена как линейный сахаро-фосфатный остов с азотистыми основаниями в качестве боковых групп. </a:t>
            </a: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547560" indent="-411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акромолекулярная структура РНК. Принципиальное макроструктурное различие двух типов нуклеиновых кислот состоит в том, что ДНК - это единая двойная спираль, то есть макромолекула из двух комплементарно связанных полимерных тяжей, спирально закрученных вокруг общей оси , а РНК - однотяжевой полимер. В то же время взаимодействия боковых групп - азотистых оснований - друг с другом, а также с фосфатами и гидроксилами сахаро-фосфатного остова приводят к тому, что однотяжевой полимер РНК сворачивается на себя и скручивается в компактную структуру , подобно сворачиванию полипептидной цепи белка в компактную глобулу. Таким способом уникальные нуклеотидные последовательности РНК могут формировать уникальные пространственные структуры.</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611280" y="5928840"/>
            <a:ext cx="8532720" cy="6066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400" spc="-1" strike="noStrike">
              <a:solidFill>
                <a:srgbClr val="000000"/>
              </a:solidFill>
              <a:latin typeface="Trebuchet MS"/>
            </a:endParaRPr>
          </a:p>
        </p:txBody>
      </p:sp>
      <p:sp>
        <p:nvSpPr>
          <p:cNvPr id="1459" name=""/>
          <p:cNvSpPr txBox="1"/>
          <p:nvPr/>
        </p:nvSpPr>
        <p:spPr>
          <a:xfrm>
            <a:off x="250920" y="189000"/>
            <a:ext cx="8464320" cy="581184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первые специфическая пространственная структура РНК была продемонстрирована при расшифровке атомной структуры одной из тРНК в 1974 г.  (рис. 3). Сворачивание полимерной цепи тРНК, состоящей из 76 нуклеотидных мономеров, приводит к формированию очень компактного глобулярного ядра, из которого под прямым углом торчат два выступа. Они представляют собой короткие двойные спирали по типу ДНК, но организованные за счет взаимодействия участков одной и той же цепи РНК. Один из выступов является акцептором аминокислоты и участвует в синтезе полипептидной цепи белка на рибосоме, а другой предназначен для комплементарного взаимодействия с кодирующим триплетом (кодоном) мРНК в той же рибосоме. Только такая структура способна специфически взаимодействовать с белком-ферментом, навешивающим аминокислоту на тРНК, и с рибосомой в процессе трансляции, то есть специфически "узнаваться" ими</a:t>
            </a:r>
            <a:endParaRPr b="0" lang="en-US" sz="2400" spc="-1" strike="noStrike">
              <a:solidFill>
                <a:srgbClr val="000000"/>
              </a:solidFill>
              <a:latin typeface="Trebuchet MS"/>
            </a:endParaRPr>
          </a:p>
        </p:txBody>
      </p:sp>
      <p:sp>
        <p:nvSpPr>
          <p:cNvPr id="1460"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456840" y="320400"/>
            <a:ext cx="724212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800" spc="-1" strike="noStrike">
              <a:solidFill>
                <a:srgbClr val="000000"/>
              </a:solidFill>
              <a:latin typeface="Trebuchet MS"/>
            </a:endParaRPr>
          </a:p>
        </p:txBody>
      </p:sp>
      <p:sp>
        <p:nvSpPr>
          <p:cNvPr id="1462"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1463" name="Picture 2" descr=""/>
          <p:cNvPicPr/>
          <p:nvPr/>
        </p:nvPicPr>
        <p:blipFill>
          <a:blip r:embed="rId1"/>
          <a:stretch/>
        </p:blipFill>
        <p:spPr>
          <a:xfrm>
            <a:off x="457200" y="928800"/>
            <a:ext cx="7257960" cy="3357360"/>
          </a:xfrm>
          <a:prstGeom prst="rect">
            <a:avLst/>
          </a:prstGeom>
          <a:ln w="0">
            <a:noFill/>
          </a:ln>
        </p:spPr>
      </p:pic>
      <p:sp>
        <p:nvSpPr>
          <p:cNvPr id="1464" name="Прямоугольник 5"/>
          <p:cNvSpPr/>
          <p:nvPr/>
        </p:nvSpPr>
        <p:spPr>
          <a:xfrm>
            <a:off x="500040" y="4813200"/>
            <a:ext cx="721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томная (слева) и скелетная (справа) модели фенилаланиновой тРНК дрожж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6:30:26Z</dcterms:created>
  <dc:creator>user</dc:creator>
  <dc:description/>
  <dc:language>en-US</dc:language>
  <cp:lastModifiedBy>XP GAME 2010</cp:lastModifiedBy>
  <dcterms:modified xsi:type="dcterms:W3CDTF">2012-11-30T10:30:32Z</dcterms:modified>
  <cp:revision>6</cp:revision>
  <dc:subject/>
  <dc:title>БИОСИНТЕЗ БЕЛКОВ</dc:title>
</cp:coreProperties>
</file>